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6.xml" ContentType="application/vnd.openxmlformats-officedocument.presentationml.notesSlide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07/16/9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##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hese performance degrading op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/etc/passwd fi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magic script usage; explain strict locking, reference items such as MS Access file locking and similar probl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sonal notes on the abundance of user/developer feedback, describe personal experiences on questions and answer sessions, direct developer su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D31A-C431-4CE5-9EE2-CC1BCED76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9A21-4369-40DD-952E-B5E603834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BEB1-C9A5-4F53-86F1-82E7D6378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AF9E-1B30-4968-A7AC-C79A1E83A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D6749-2C7F-4D00-97AB-05E6FFB2C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36EE0-6BE5-42C1-B4B1-36575D11B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54CF9-0690-4E73-B6CC-8DA7351F3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8C1C4-F244-49AA-A3F4-50FF68B10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582A2-1DF7-40F5-B9E7-A9BD34A54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138CF-AB72-4DDD-95E5-3BD06ECA6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92235-2B14-4BBC-A682-8FE0CFE17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4646-E017-413F-919B-2FD9B2087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2AEAA-5A70-491F-ABD7-4BAE1689A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5AA04-7BE2-4977-B8A6-216D93287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FCC60-DCD5-493B-A647-19EA44B24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B26D0-C2FC-4735-B976-62B745245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0F34B-10DA-42D9-AD45-897E52AF3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FAB0-831A-4A3B-8910-2C826E17B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08C6-2510-4374-A9A1-E51A7550A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4A09-04F9-4D9D-886C-2BA8E5662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FA9A-A2CF-46E3-8384-0B18941E0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0B44-794D-48C2-9970-B7CB76FD6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46F8-2CA5-4D1A-AB59-C621A7F9B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506C-808E-4D7D-9797-3033ACB9C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00515-E33B-47CD-AEE8-1588716BEC13}" type="datetime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F2B9D-C232-4E78-B5BF-EF18BC16DF0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C4EF4-743D-47DC-A7FF-3607D167E1E6}" type="datetime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35D7F-41E4-443A-8D8B-DC6FD4C9FB1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amba Integra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Brian Robers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LUG meeting, April 1999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D8113DB3-DC5A-4294-AAC6-B460582A1415}" type="datetime1">
              <a:rPr lang="en-US"/>
              <a:t>07/28/26</a:t>
            </a:fld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35620E-11DE-4D50-B723-0F1B309CBF5A}" type="datetime1">
              <a:rPr lang="en-US"/>
              <a:t>07/28/26</a:t>
            </a:fld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serv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s another SMB server for authentica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query fails, reverts to security =  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encrypted passwords were negotiated, will not revert to use /etc/passw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F0EB78-E0E2-441F-AF13-B4FE82B0FC13}" type="datetime1">
              <a:rPr lang="en-US"/>
              <a:t>07/28/26</a:t>
            </a:fld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omai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16D013-CDD5-4216-835A-382A2CC1912B}" type="datetime1">
              <a:rPr lang="en-US"/>
              <a:t>07/28/26</a:t>
            </a:fld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domai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ill only work if `smbpasswd` was used to add machine to a domai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nly accepts encrypted passwor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Validates users exactly the same as NT does, against a PDC or BDC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urrent problem with multi-byte character set usernam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15699B-AA71-4313-8DBC-B9FF2B3303A9}" type="datetime1">
              <a:rPr lang="en-US"/>
              <a:t>07/28/26</a:t>
            </a:fld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nfiguration File Layou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pecial Section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ice Section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E51054-77D6-4B52-86E9-BC4A6C08C225}" type="datetime1">
              <a:rPr lang="en-US"/>
              <a:t>07/28/26</a:t>
            </a:fld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pecial Section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[global] Sec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[homes] Sec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[printers] Sec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5B4112-FEA1-4DB0-A78D-BC791C4DAD0B}" type="datetime1">
              <a:rPr lang="en-US"/>
              <a:t>07/28/26</a:t>
            </a:fld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[global] Sec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ptions apply to server as a who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ny service parameter can be specified in the global section, they will serve as the ‘default’ for all servic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ad time &amp; keep alive, widelinks &amp; getwd cache, socket options *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23B274-3CE0-4E3F-B450-C6FFC1613CFB}" type="datetime1">
              <a:rPr lang="en-US"/>
              <a:t>07/28/26</a:t>
            </a:fld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[homes] Sec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hen connection request is made, If no match is found, its treated as a username and looked up in the local /etc/password file *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guest access is specified, all home directories are visib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E60019-80A1-4601-B033-3F7985BDDAB2}" type="datetime1">
              <a:rPr lang="en-US"/>
              <a:t>07/28/26</a:t>
            </a:fld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[printers] Sec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nection sequence; scan existing sections, if [homes] section exists, used as previously described, request then treated as printer name and appropriate printcap file is scanned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ossible to use `lpstat` in place of /etc/printcap ( SYSV / LPRng 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AE1714-6E8E-403A-A76C-3407EFF90D1F}" type="datetime1">
              <a:rPr lang="en-US"/>
              <a:t>07/28/26</a:t>
            </a:fld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Ordinary Section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mmon Service Parameter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ncommon Service Parameter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83F18B-1E27-45A5-A88F-151497A19E2E}" type="datetime1">
              <a:rPr lang="en-US"/>
              <a:t>07/28/26</a:t>
            </a:fld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Integration Of Samb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uthentication schem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figuration File Layou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s ( Services 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6348DF-F052-4735-A02B-CB20DF3F108F}" type="datetime1">
              <a:rPr lang="en-US"/>
              <a:t>07/28/26</a:t>
            </a:fld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mmon Service Paramet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[servicename]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omment = whatever you want to show up as a comment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ath = /path/to/the/directory/you/want/to/shar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synonym for “guest ok” ( allow this share to be readable by other than valid users )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ublic = no 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these people are allowed to read (open) this servic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valid users = name1, name 2, @group2 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these people are in @group2 but we don’t want to give them acces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invalid users = name3, name5, @group1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allow this service to be written to, by valid user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writable = yes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this is not a printable servic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rintable = no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who is allowed to write to this servic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write list = name1, @group2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the next two options are to change the Unix modes when files/directories are made.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Unix mode forced for EVERY file creation ( we want the group to be able to edit it )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force create mode = 0660 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Unix mode forced for EVERY directory made in this share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( we want the group to be able to get it/change it, and world `cd`abl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force directory mode = 0775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9126B5-E7E9-47EF-B547-5D5B6D6BBCC8}" type="datetime1">
              <a:rPr lang="en-US"/>
              <a:t>07/28/26</a:t>
            </a:fld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mmon Service Paramet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[servicename2]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omment = servicename2, put you want her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ath = /path/to/the/directory/you/want/to/shar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guest ok = no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valid users = @user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writable = ye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rintable = no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after mapping from DOS modes to UNIX permissions, bit-wise `AND`ed  the permissions with these value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default create mask is: 0744 , default directory create mask is: 0755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 e.g. we want these to be read/written/viewed by user only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reate mask = 0700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directory create mask = 0700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EFE8E4-39E7-4D64-B0E2-AD494D0E2788}" type="datetime1">
              <a:rPr lang="en-US"/>
              <a:t>07/28/26</a:t>
            </a:fld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Uncommon Service Paramet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p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lete readonl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veto fil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styp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*magic scrip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*strict locking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6CD228-5932-4185-8A51-4F97BEED2876}" type="datetime1">
              <a:rPr lang="en-US"/>
              <a:t>07/28/26</a:t>
            </a:fld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QUESTIONS &amp; ANSW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an pages are your frien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lenty of online documenta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ossibly the best user/developer suppor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448E5C-2246-47DC-BD84-1CDED768BB54}" type="datetime1">
              <a:rPr lang="en-US"/>
              <a:t>07/28/26</a:t>
            </a:fld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ferenc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http://www.samba.org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an pag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ocumentation in the source cod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857562-4D96-4381-823E-38771EAA33F0}" type="datetime1">
              <a:rPr lang="en-US"/>
              <a:t>07/28/26</a:t>
            </a:fld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omai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8A015F-A5F1-4874-ACDB-57C44768AB0C}" type="datetime1">
              <a:rPr lang="en-US"/>
              <a:t>07/28/26</a:t>
            </a:fld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0082A1-84D2-40B7-85F1-96F780A9A07D}" type="datetime1">
              <a:rPr lang="en-US"/>
              <a:t>07/28/26</a:t>
            </a:fld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shar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revious versions, this was defaul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amba always uses a valid UNIX 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ral techniques to determine UNIX 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user cant be determined, the “guest” account if supplied gets use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DB2255-0049-4C9B-A61C-83168D5D453E}" type="datetime1">
              <a:rPr lang="en-US"/>
              <a:t>07/28/26</a:t>
            </a:fld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3C57E1-B85B-44F5-AE55-D63A635D3326}" type="datetime1">
              <a:rPr lang="en-US"/>
              <a:t>07/28/26</a:t>
            </a:fld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us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fault selection in 2.0.x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 must “logon” to gain access to a 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Encrypted passwords*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*see next two slid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C91C13-B844-429A-8D46-58A3DFB9F124}" type="datetime1">
              <a:rPr lang="en-US"/>
              <a:t>07/28/26</a:t>
            </a:fld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Encrypted Password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ust use separate password fi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assword storage is not one way crypt like standard UNIX /etc/passw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95 OSR2, NT4sp3 &amp; up, default’s to only send encrypted passwor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lain text passwords are never sent over the network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AFDC70-0C68-4FE3-84BF-3098C6496570}" type="datetime1">
              <a:rPr lang="en-US"/>
              <a:t>07/28/26</a:t>
            </a:fld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Unencrypted Password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ust use special registry entry on client (win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s /etc/passwd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nds plain text passwords over the network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nsure if future win-X will support this featu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79FB5B-FD33-4D21-A758-A9121EFC2187}" type="datetime1">
              <a:rPr lang="en-US"/>
              <a:t>07/28/26</a:t>
            </a:fld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17T08:14:35Z</dcterms:created>
  <dc:creator>Brian Roberson</dc:creator>
  <dc:description/>
  <cp:keywords>Brief Samba Presentation</cp:keywords>
  <dc:language>en-US</dc:language>
  <cp:lastModifiedBy>Brian Roberson</cp:lastModifiedBy>
  <dcterms:modified xsi:type="dcterms:W3CDTF">1999-04-19T01:16:12Z</dcterms:modified>
  <cp:revision>13</cp:revision>
  <dc:subject>Overview of Options</dc:subject>
  <dc:title>Samba Integr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bstc.net/~brian</vt:lpwstr>
  </property>
  <property fmtid="{D5CDD505-2E9C-101B-9397-08002B2CF9AE}" pid="9" name="LinkColor">
    <vt:r8>16711782</vt:r8>
  </property>
  <property fmtid="{D5CDD505-2E9C-101B-9397-08002B2CF9AE}" pid="10" name="MailAddress">
    <vt:lpwstr>brian@bstc.net</vt:lpwstr>
  </property>
  <property fmtid="{D5CDD505-2E9C-101B-9397-08002B2CF9AE}" pid="11" name="NavBtnPos">
    <vt:r8>3</vt:r8>
  </property>
  <property fmtid="{D5CDD505-2E9C-101B-9397-08002B2CF9AE}" pid="12" name="Other">
    <vt:lpwstr>OLUG presentation</vt:lpwstr>
  </property>
  <property fmtid="{D5CDD505-2E9C-101B-9397-08002B2CF9AE}" pid="13" name="OutputDir">
    <vt:lpwstr>\\Beast\html\slides</vt:lpwstr>
  </property>
  <property fmtid="{D5CDD505-2E9C-101B-9397-08002B2CF9AE}" pid="14" name="Owner">
    <vt:lpwstr>PUBLIC-GNU-GPL</vt:lpwstr>
  </property>
  <property fmtid="{D5CDD505-2E9C-101B-9397-08002B2CF9AE}" pid="15" name="Purpose">
    <vt:lpwstr>OLUG Meeting, April 1999</vt:lpwstr>
  </property>
  <property fmtid="{D5CDD505-2E9C-101B-9397-08002B2CF9AE}" pid="16" name="Reference">
    <vt:lpwstr>Man Pages, source code</vt:lpwstr>
  </property>
  <property fmtid="{D5CDD505-2E9C-101B-9397-08002B2CF9AE}" pid="17" name="ScreenSize">
    <vt:r8>1</vt:r8>
  </property>
  <property fmtid="{D5CDD505-2E9C-101B-9397-08002B2CF9AE}" pid="18" name="ScreenUsage">
    <vt:r8>1</vt:r8>
  </property>
  <property fmtid="{D5CDD505-2E9C-101B-9397-08002B2CF9AE}" pid="19" name="ShowNotes">
    <vt:bool>0</vt:bool>
  </property>
  <property fmtid="{D5CDD505-2E9C-101B-9397-08002B2CF9AE}" pid="20" name="Source">
    <vt:lpwstr>Samba Man Pages, and various other documentation included in the samba source code</vt:lpwstr>
  </property>
  <property fmtid="{D5CDD505-2E9C-101B-9397-08002B2CF9AE}" pid="21" name="TemplateType">
    <vt:r8>1</vt:r8>
  </property>
  <property fmtid="{D5CDD505-2E9C-101B-9397-08002B2CF9AE}" pid="22" name="TextColor">
    <vt:r8>0</vt:r8>
  </property>
  <property fmtid="{D5CDD505-2E9C-101B-9397-08002B2CF9AE}" pid="23" name="TransparentButton">
    <vt:r8>0</vt:r8>
  </property>
  <property fmtid="{D5CDD505-2E9C-101B-9397-08002B2CF9AE}" pid="24" name="UseBrowserColor">
    <vt:bool>1</vt:bool>
  </property>
  <property fmtid="{D5CDD505-2E9C-101B-9397-08002B2CF9AE}" pid="25" name="VisitedColor">
    <vt:r8>10040268</vt:r8>
  </property>
</Properties>
</file>